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89274"/>
        <c:axId val="43297930"/>
      </c:barChart>
      <c:catAx>
        <c:axId val="85589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97930"/>
        <c:crosses val="autoZero"/>
        <c:auto val="1"/>
        <c:lblAlgn val="ctr"/>
        <c:lblOffset val="100"/>
        <c:noMultiLvlLbl val="0"/>
      </c:catAx>
      <c:valAx>
        <c:axId val="43297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89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DA0-8E83-454E-97CF-E9493A5D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CB9-13B8-417B-BAAD-8BA476E3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E46-C1D3-4E44-9C31-5779C15C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0E6-778E-4858-B1A6-B0B38E5B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1C2-C687-4745-B48F-2F79C9ED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97C-3422-41BE-B0AB-0CACE983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CD6-B1CE-48AA-AD18-3D3578D5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D3A-896B-4EA7-8108-1233BBD4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7A8-DA66-4D33-BC49-E48FC9DE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220-2533-4CEE-A806-E39B5FF3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315-0A6B-4E10-A247-95015CEB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9DD-8CC4-4023-AF74-12E23AC2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5022D-A67C-4FC4-9D2C-0A2A2CDF69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