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51588"/>
        <c:axId val="19517142"/>
      </c:barChart>
      <c:catAx>
        <c:axId val="60351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17142"/>
        <c:crosses val="autoZero"/>
        <c:auto val="1"/>
        <c:lblAlgn val="ctr"/>
        <c:lblOffset val="100"/>
        <c:noMultiLvlLbl val="0"/>
      </c:catAx>
      <c:valAx>
        <c:axId val="19517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51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153-9290-4969-A759-1516F5A0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1AD-033C-45F0-AEFB-4F31FDB9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011-2DBD-440E-B91C-2C231197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C61-99F4-421F-A3B4-A1A8B393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808-C02B-42C6-BDA8-4C1B7090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C7B-3A93-41C0-94A6-02FE59BB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1D1-F62A-46D4-BBD3-4FE8B1EA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649-8B69-4ABD-9FE8-9B5724D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224-FA13-4D3F-B594-8FF39C7D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222-5610-4F57-AE50-71B4FEBB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CEC-D31C-4A75-B243-FF9196DD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609-6E76-4AA6-9357-4305AE24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F909B-AA2A-47BD-AB1F-EFF1D17636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