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6741459"/>
        <c:axId val="69678586"/>
      </c:barChart>
      <c:catAx>
        <c:axId val="8674145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678586"/>
        <c:crosses val="autoZero"/>
        <c:auto val="1"/>
        <c:lblAlgn val="ctr"/>
        <c:lblOffset val="100"/>
        <c:noMultiLvlLbl val="0"/>
      </c:catAx>
      <c:valAx>
        <c:axId val="6967858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74145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488AF-6B64-46A9-A828-337521669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768FA-5E5B-4DA5-962B-916EEDF83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C1177-247B-47F4-AB52-A698E9560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DE0E5-EFA1-461B-B5FA-A75FE0B89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D679F-18DC-4AAA-9551-DAFCFD272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A4374-8614-4AD8-BFED-923EA4F5C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2798E-2640-4181-A71A-3925C5A79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DA83E-848A-4133-ADE9-BFA8690F7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B320E-97BE-43EE-BFE2-3E36E3F3C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E9663-1BB2-4D68-A447-F823D6F0E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9B9A4-11A2-43EF-B215-B5C16F0EC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9F854-EFEC-471C-8D91-AF2F45C2B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EEE771-C39A-43BE-A1AE-67ACEB5A228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