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63689"/>
        <c:axId val="25007443"/>
      </c:barChart>
      <c:catAx>
        <c:axId val="545636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07443"/>
        <c:crosses val="autoZero"/>
        <c:auto val="1"/>
        <c:lblAlgn val="ctr"/>
        <c:lblOffset val="100"/>
        <c:noMultiLvlLbl val="0"/>
      </c:catAx>
      <c:valAx>
        <c:axId val="25007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636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211-39DD-49D3-A801-DE2A6E2F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9649-2921-45CA-B007-ADEDB767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839C-F72E-466A-A626-499301DF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CA9-B4B9-4F21-9D83-8AB085BA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4E96-4F15-4695-A299-B428DAF6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497-D5BF-4A42-BB45-E4C889CA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AA8E-124E-4004-AD53-6D1A045B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EC2-1783-4855-BF3F-7618BA23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640-3B19-46EB-920E-D07D646D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E0B-A148-49FA-A04C-A82853B2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5533-169A-499F-915B-D6AED12D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BAE-6485-43F1-8A64-3F03B5B0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4DC4A-9201-423F-8316-09CB8C1276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