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70104"/>
        <c:axId val="97528862"/>
      </c:barChart>
      <c:catAx>
        <c:axId val="98970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28862"/>
        <c:crosses val="autoZero"/>
        <c:auto val="1"/>
        <c:lblAlgn val="ctr"/>
        <c:lblOffset val="100"/>
        <c:noMultiLvlLbl val="0"/>
      </c:catAx>
      <c:valAx>
        <c:axId val="97528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0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ECC-A436-4B38-A6C2-E5094455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0B4-52E8-481F-B7BA-21EFC495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578-034B-442E-917C-172DCDBE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4F3-582E-4256-8690-4A62F360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E96-4B75-4CD4-942F-500A0C40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D45-22EC-4315-B323-B054DFF0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90E-74F2-428D-A750-1D7E5A4E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766-F684-4E58-88D5-3B847DBB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F87-A82C-4A0C-9CD9-B3B8C867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034-8316-4D1E-B237-CC512874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464-91F5-4773-921E-4D8E3B56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E29-CF0F-47AD-B6AC-79BE12A6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93F1D-7BCC-48F8-95F2-E19D26025F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