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77989"/>
        <c:axId val="12679977"/>
      </c:barChart>
      <c:catAx>
        <c:axId val="19779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679977"/>
        <c:crosses val="autoZero"/>
        <c:auto val="1"/>
        <c:lblAlgn val="ctr"/>
        <c:lblOffset val="100"/>
        <c:noMultiLvlLbl val="0"/>
      </c:catAx>
      <c:valAx>
        <c:axId val="126799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779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F167-7D51-4AE9-B6B2-E3D306465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00F1-A63D-4911-A6F0-BE5115D5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B776-1B06-4F07-BF0B-65927DBA2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CB8F-80CA-41FE-BC0F-2D12F9E4F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BAE8-206D-436B-8DDE-56601F8E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7167-7E53-4C6E-B331-DC0F1AAC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7EAA-9E52-4BFD-8D93-FC7339C7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AEDD-49E5-44F8-B719-B4257C0F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F597-5451-43DC-95CD-1047CCC2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A2E9-3E13-4CA5-91C6-AFF70C76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F690-65F1-45F3-83B8-C8C68498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AF49-DAC6-4BCF-ABA0-6A3BE1E9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8E13FD-0EE4-4F92-B67C-3F4E056596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