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48169"/>
        <c:axId val="42570889"/>
      </c:barChart>
      <c:catAx>
        <c:axId val="98748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70889"/>
        <c:crosses val="autoZero"/>
        <c:auto val="1"/>
        <c:lblAlgn val="ctr"/>
        <c:lblOffset val="100"/>
        <c:noMultiLvlLbl val="0"/>
      </c:catAx>
      <c:valAx>
        <c:axId val="425708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48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34E3-EFB1-4AF8-90B6-D54BDBA3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714-6853-494E-8327-0472D1B3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992-0B96-40F6-81B4-E30DF009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066A-8013-426F-82BC-FD3A8DE0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37F9-6187-4845-8E9F-B898ED68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D1D-AEB9-4B4C-9B72-F3600C7B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1A3-322B-443A-BF5A-D3E954FA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D557-8694-43CE-963F-F555CAB5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061-31C8-4408-85D3-3BC67019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A70-1101-44F6-8EEF-831A44A4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F90-59F0-46A6-A4B7-BC9A01A9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AC6-9A0E-48DA-BCE9-90F6B51C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F7053-2C8C-48EE-A528-F0D822AB5D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