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71885"/>
        <c:axId val="17907035"/>
      </c:barChart>
      <c:catAx>
        <c:axId val="45071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07035"/>
        <c:crosses val="autoZero"/>
        <c:auto val="1"/>
        <c:lblAlgn val="ctr"/>
        <c:lblOffset val="100"/>
        <c:noMultiLvlLbl val="0"/>
      </c:catAx>
      <c:valAx>
        <c:axId val="17907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71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341-C7DF-4101-B05F-EA43F3C2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B75-A8CC-49FF-AF27-99A198D0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EAF-32C5-47F5-9C2D-C38F9D86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313-BF47-4CEA-AF95-63B38B00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0AA-1E66-4334-ADE8-BA16FA4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1F5-53B1-4C58-BA91-0EEDD281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4F9-D091-4005-8296-73A30048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E2F-9589-4CCF-8AF9-D1D6F1AC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70C-E55D-419B-A05F-CE49BBAE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D3D-57E8-45D5-A16A-3C072C65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82F-A6BF-481E-AD3E-A64A006A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482-31E3-42BB-B54C-42426558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F48FC-7C5B-4AF9-A4B6-1461C54880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