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98129"/>
        <c:axId val="9073191"/>
      </c:barChart>
      <c:catAx>
        <c:axId val="31198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191"/>
        <c:crosses val="autoZero"/>
        <c:auto val="1"/>
        <c:lblAlgn val="ctr"/>
        <c:lblOffset val="100"/>
        <c:noMultiLvlLbl val="0"/>
      </c:catAx>
      <c:valAx>
        <c:axId val="9073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98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75E-E672-4B57-BD6F-1D47F230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B1D-2438-4300-8047-1531302E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F53-EA54-4AD1-8564-5D3C90A9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A83-9ED7-428E-85A4-850E9191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510-4C18-43A1-A0BF-C47AC70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6AC-EA70-494C-89AD-4C2668F7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44D-BDBC-4931-A565-44FD7F4D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22F-B835-4F92-8DF2-8BC3AF75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385-BE15-41DC-A57F-6B52FBF1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556-5F23-404E-89A9-2942EB8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A3D-F979-4AC2-8332-90113991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4F7-9B6C-451D-9883-F4CB7B7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5A81E-1CDF-4860-9FCD-827E827BDB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