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67516"/>
        <c:axId val="23918046"/>
      </c:barChart>
      <c:catAx>
        <c:axId val="60367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18046"/>
        <c:crosses val="autoZero"/>
        <c:auto val="1"/>
        <c:lblAlgn val="ctr"/>
        <c:lblOffset val="100"/>
        <c:noMultiLvlLbl val="0"/>
      </c:catAx>
      <c:valAx>
        <c:axId val="23918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67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207-A1DA-4F2A-A8F7-7736C803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EA2-A213-48A9-BE59-43BC0F07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BF7F-57D5-46A3-82AF-3BF96738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9DEF-E849-4FF8-B282-D4DB0F0F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D160-D0D2-4BAE-A2F5-6505D15E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24EC-ACED-4F11-AE33-B1EBAF21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E1DF-2D57-4503-BBFD-53FA13D6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CCDB-45DF-4E92-AAFC-EF93E1F1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FDB2-4A8F-4EDF-8CE1-60AF3A2E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BB5-1231-49C3-B363-4394425A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2214-6A06-43E8-A31A-59F6629B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619-3C6B-403A-AE07-DB20FB89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A52A7-0912-44FC-A5D8-26906BBCCB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