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565460"/>
        <c:axId val="33549167"/>
      </c:barChart>
      <c:catAx>
        <c:axId val="995654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49167"/>
        <c:crosses val="autoZero"/>
        <c:auto val="1"/>
        <c:lblAlgn val="ctr"/>
        <c:lblOffset val="100"/>
        <c:noMultiLvlLbl val="0"/>
      </c:catAx>
      <c:valAx>
        <c:axId val="335491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654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965D-1553-4EA6-9A65-AB591A5C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B929-3D44-407D-9EFF-33251E02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2590-1BA6-4D04-8FF8-73E09521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CE12-675F-4101-A2EC-D7B54334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0FB5-91CB-403E-A156-73F71119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EF42-BAFF-42B8-BB37-370831F6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1641-732B-40C8-BEC3-AB034651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06FC-C51D-4D5C-A022-AC164A40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6B79-1CFB-40ED-9F3D-11DF697B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86B0-99C0-43B9-8849-F2F2A2E7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CDA6-7FE9-4C73-8497-96BED72E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704E-D664-4FB5-8D76-D409A3A8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1B0EF-E03F-41A7-8E54-4225ACB92A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