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747685"/>
        <c:axId val="96744575"/>
      </c:barChart>
      <c:catAx>
        <c:axId val="707476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44575"/>
        <c:crosses val="autoZero"/>
        <c:auto val="1"/>
        <c:lblAlgn val="ctr"/>
        <c:lblOffset val="100"/>
        <c:noMultiLvlLbl val="0"/>
      </c:catAx>
      <c:valAx>
        <c:axId val="967445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476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F0A4-601A-4EB4-8B50-A556C06E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06E1-6D02-48D4-88D3-2521D3A4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044B-1A13-4B58-A3CC-29ABB2B1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B129-93F3-4C6D-AA99-99A30A6D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E1C0-7C3C-425A-8947-4F3A1482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BFAB-20DC-4BFB-82B8-8405B92E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F0D0-60F1-4814-A3F4-6CD97F6C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F6FF-2608-43E3-808B-34D5C39A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9F1C-DA8E-4345-AC21-393BE290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4AC3-8158-4583-8971-9E4E7F3E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FAE4-61BD-4FEF-80F4-A2187E18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AEE1-9AE7-4F19-B4EA-A2127A8A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B2C38-4527-4608-BA9B-15EE14ED9B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