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95581"/>
        <c:axId val="73073007"/>
      </c:barChart>
      <c:catAx>
        <c:axId val="21395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73007"/>
        <c:crosses val="autoZero"/>
        <c:auto val="1"/>
        <c:lblAlgn val="ctr"/>
        <c:lblOffset val="100"/>
        <c:noMultiLvlLbl val="0"/>
      </c:catAx>
      <c:valAx>
        <c:axId val="73073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95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C27-4197-41A9-9C2C-E6248C77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A45-5EE1-481C-A51E-D17A8D75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F37-39BB-4C48-821C-67CDA58D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B1F-42AB-4CF2-B9D1-AA665685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85F-A13B-4936-ADA6-E0CE7335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849-F1C0-4676-A500-64947E5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174-7D2E-457B-9E96-74B92305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987-1D05-49B4-87FA-80FD8121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D33-33A6-42E5-AB17-C2B7E89D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DE1-135F-48B7-812E-5D10DF4F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26D-1E11-48D4-AD12-E29B63FE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639-A240-41E2-973E-00E53D56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BE254-9D59-44B0-8B0E-EFCA2E2E18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